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0EC-8598-4A29-8DC0-8B9498D0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ACF-510D-4D28-A42D-783C34B5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85F-D1ED-4DB6-B602-6B7ECD08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B54-F3B2-439E-8971-57ED8373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E27-60EA-4578-9CEF-DCD04E1F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9B7-0A7B-41F5-8E69-E3BB0DB4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8B1-384F-4E3A-A255-3A8C9164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912-4BA1-43EA-AAF6-82534A4C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CBB-A72D-4943-98A8-71880F3F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B47-FE16-4E90-AF93-DD0940EE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2DC-9B02-4E1A-AB5A-3375F62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F67-3EC5-4F79-943A-93F6C3CD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92F0-6C03-47F9-8C15-D0CF1C37C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, draw,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math as a part of daily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, draw,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560" y="22860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ine units by counting centimeter l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break apart centimeter lengths into partner li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ine segments by reading numbers on a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the properties of squares, rectangles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2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abel geometric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nd find perimeters of squares and rect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he perimeters of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gles of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- Uni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and solve change plus and change minus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and represent change plus and change minus story problems from equations and 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nd discuss  change plus and change minus story problem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tell the difference between “change” and “collection”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collection story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lassify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tell with my own words and solve story problems that have  group n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comparison language the correct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comparison story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 and solve comparis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comparis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unt on or make a ten to solve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68812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 -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when problems do not have enough or hav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not enough information by adding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x and solve problems that hav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 with hidden information by figuring out what that information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 with not enough information by adding information to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extra information by crossing out th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more than one solution st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otals using the doubles plus 1 or the doubles minus 1 strate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at even numbers are those that make two equal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challenging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, mystery addition and subtraction (teen total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the properties of squares, rectangles,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find the perimeter of squares, rectangles,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lassify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d explain parallel 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d define parallel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 or subtraction problems involving 0 or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rules for adding or subtracting 0 or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how numbers in different 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how numbers 6 – 10 as 5 and some m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4 cont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scribe the properties of quadrilaterals,  parallelograms, rectangles and squ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ategorize quadrilater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how relationships among quadrilater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- Unit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numbers to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patterns among numbers in different place value pos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late groups of 10 to decade numbers and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ones, tens, and hundreds in different w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2 and 3 digit numbers through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totals of ones and t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2 and 3 digit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numbers up to 99 in word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a 1 digit number to a 2 digi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exchanging pennies for d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and compare 100-partners and10-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problems with tens and some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decade numbers over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1- and 2- digit numbers to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10 based story problems with decade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sets as odd or 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numbers as odd or 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51920" y="1522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how many of an object is sh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how many of an object will fit in a given 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a method of solving 2-digit addi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ones to make a new ten; group tens to make a new 1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addition concepts and strategies to a real-world sit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problems using the Show All Totals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ifference between tens and ones in 2-digit add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exercises using the New Groups Below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ifference between tens and ones in 2-digit add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preferred method to solve 2-digit addition exerci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tell the difference between ones, tens, and hundreds in two digit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2-digit numbers with totals greater than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and contrast different solution methods for 2-digit add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, discuss, and correct common 2-digit addition err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efinition of peri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the perimeter of regular and irregular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2 and 3-digit money amounts using dollars, dimes and pen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addition concepts and strategies to real world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coins to amounts between $1.00 and $2.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bine pennies, nickels, and dimes to make differen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money amounts to purchase two items between $1.00 and $2.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kip count forward and backw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nalyze relationships between numbers in seque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patterns in a horizontal hundred gri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ddition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find the partners of 2-digit numbers and partners of 1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and analyze repeating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tend object and number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scribe the missing units in a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alog and digital clo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.m. and p.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ink times to daily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erience how long a minute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n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5 minu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920" y="228600"/>
            <a:ext cx="8610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een numbers as a ten and some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word names for numbers to 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break-aparts of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break-aparts of numbers 2-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visualize various number group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6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observe how the hour hand moves with the minute h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osition the hour hand to reflect the number of minutes after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1 minu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time as after the hour and before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ppropriate units to measur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termine elapsed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6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and understand calend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ordinal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d extend patterns in a function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struct and interpret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lan a data collection pro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nalyze information in picture graphs to create and solve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talk about informatio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llect data for a  class proje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comparison problems show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, mo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talk about informatio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s greater than &gt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s less than &lt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rison symbo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, represent and solve comparison story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information in story problems in a simple picture grap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ore, 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tables for comparison situ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sk and answer comparison questions using information in a 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llect data for a class proj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struct tables and convert them to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rd data collected for a class pro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data from a tally list to a summary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a data table to a picture graph and ask questions based on the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bar graphs with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picture graphs into bar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04920" y="151920"/>
            <a:ext cx="85341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and analyze information in a bar 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 bar graph to ask and answer comparison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nalyze information in bar graphs to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elect a way to categorize and display raw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bar graphs to display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nalyze information to create bar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bar graphs and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bar graphs into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information from a circle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and solve problems with a given circle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reate questions and make comparison statements based on a given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horizontal graphs to vertical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4920" y="22824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and answer questions about information in tables, bar graphs and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number partners in t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 ch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predictions from simple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iscuss conclusions and make predictions from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nfer trends from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4560" y="1522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s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break-aparts of numbers 2-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 to ad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 to solve mystery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at teen numbers are made up of a 10 and some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numbers that make a teen to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two numbers that make a teen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rd the Make a Ten strategy in written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 ten by adding two numbers to make a teen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finger, written and mental strategies of making a ten to add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unt on to solve addition, mystery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 ten to solve mystery addition and subtracti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the same solution methods to mystery addition and subtr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or subtract by counting on, using a number 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understand what the equals sign = means and recognize the symbol for = “is not equal t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 ch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s in vertical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s involving a total and two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419360" y="32767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enerate equations from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two numbers using the &lt; or &gt; symb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order thre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strategies for adding thre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and discuss teen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1519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 -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 processe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4:32:41Z</dcterms:created>
  <dc:creator>MCPS</dc:creator>
  <dc:description/>
  <dc:language>en-US</dc:language>
  <cp:lastModifiedBy>MCPS</cp:lastModifiedBy>
  <dcterms:modified xsi:type="dcterms:W3CDTF">2011-01-27T17:23:48Z</dcterms:modified>
  <cp:revision>149</cp:revision>
  <dc:subject/>
  <dc:title>Slide 1</dc:title>
</cp:coreProperties>
</file>